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DFC-4ABB-4C5C-9249-4CAB9F0A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8F8-6E37-4B6A-9C0A-2FCB3EF2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F16-7B55-4423-AFFB-01E6C6CD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070F-6E25-4AC6-8953-08D1C8FB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EC88-BA6B-44C0-B843-A0F3B898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1E3-7703-4AFE-B37D-EBD2D2A4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5BB-78FD-4EF2-B358-0B4B9B5F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C6E-D498-499D-8F49-034F9FC0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DC17-D2FC-4099-82C6-D81EE6CD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59E-8E7B-4938-87BA-9A3F50DB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933-3442-4B68-8D2E-4CB4442D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C60-0274-43E0-9A94-18E89A16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882C-584B-4861-B8CD-92A0562E7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4 Haleluja! Krásne rá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Haleluja! Krásne rán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 srdci blaho, pokoj mám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Oddelený deň je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ánov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torý posvätil on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ho Tvorcu veleb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dpočinku deň si ct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ypočuj nás, drah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ho Ducha zošli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dnes nebies požehn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bohatí všetkých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Láskou svojou skloň sa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našich 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d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prav si chrá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luhov svojho Slova žehn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o tebe šíria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šetkým všade dopomáh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lížnych k zdroju spásy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modlitbám sa priznáv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ášmu spevu sluchu praj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o sŕdc vsiate dobré semä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aštep, zvlažuj, vzrast mu d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ech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raz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šetci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poznať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mie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ríšu tvoju, nový ra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nám tvojej lásky da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zr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dá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tvoju tvár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18:55Z</dcterms:modified>
  <cp:revision>22</cp:revision>
  <dc:subject/>
  <dc:title>Je veľký náš Pán, on slávy je Kráľ Nech do všetkých strán  spev vrúcnych znie chvál.</dc:title>
</cp:coreProperties>
</file>